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CAB-8A72-487C-ADDA-E325B39C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E35F-56E6-46C8-8169-A531EDBF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37B8-A3F0-43D2-A028-2F6E657C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EEE-E944-4281-B3A8-091E7B40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00E-4D00-45CA-9F24-9DF428D1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761C-35BF-4BCA-ABBD-4DFDBDA5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78B-DB06-401E-9759-66D51D55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2091-6263-447A-87FC-1A1925D8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D7FF-9265-4F27-9A7E-53E1537D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D14A-C104-4DCC-B2D5-89945FE7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48F-C668-41AB-A7C8-6D9AEB05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025-C4A2-47FF-B547-EE15167F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2400"/>
            </a:gs>
            <a:gs pos="50000">
              <a:srgbClr val="ff3300"/>
            </a:gs>
            <a:gs pos="100000">
              <a:srgbClr val="b6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D47E-3EA7-4471-825D-973E845CB7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m-stol.ru/wp-content/uploads/2011/03/Ris1-1024x625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m-stol.ru/wp-content/uploads/2011/03/Ris1-1024x625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om-stol.ru/wp-content/uploads/2011/03/Ris1-1024x625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om-stol.ru/wp-content/uploads/2011/03/Ris1-1024x625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m-stol.ru/wp-content/uploads/2011/03/Ris1-1024x625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om-stol.ru/wp-content/uploads/2011/03/Ris1-1024x625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om-stol.ru/wp-content/uploads/2011/03/Ris1-1024x625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reportage.su/audiopics/002013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aes1.bit-hosting.com/userfiles/image/history/dollezhal.jpg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epizodsspace.airbase.ru/bibl/r2/kur.jpg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proza.ru/pics/2008/12/11/337.jpg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militera.lib.ru/memo/russian/gagarin_va/15.jpg" TargetMode="External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m-stol.ru/wp-content/uploads/2011/03/Ris1-1024x625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entary.historyguy.com/wp-content/uploads/2009/12/joseph_stalin.jp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g-fotki.yandex.ru/get/2/lady-may2006.b/0_e9dd_b62c24d7_XL" TargetMode="External"/><Relationship Id="rId6" Type="http://schemas.openxmlformats.org/officeDocument/2006/relationships/image" Target="../media/image8.png"/><Relationship Id="rId7" Type="http://schemas.openxmlformats.org/officeDocument/2006/relationships/hyperlink" Target="http://img260.imageshack.us/img280/333/av115fj.jp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media-2.web.britannica.com/eb-media/98/8698-004-7DE29C5A.jpg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pressa.irk.ru/images/editions/pt/2005/n40/40-8.jpg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m-stol.ru/wp-content/uploads/2011/03/Ris1-1024x625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entary.historyguy.com/wp-content/uploads/2009/12/joseph_stalin.jp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g-fotki.yandex.ru/get/2/lady-may2006.b/0_e9dd_b62c24d7_XL" TargetMode="External"/><Relationship Id="rId6" Type="http://schemas.openxmlformats.org/officeDocument/2006/relationships/image" Target="../media/image8.png"/><Relationship Id="rId7" Type="http://schemas.openxmlformats.org/officeDocument/2006/relationships/hyperlink" Target="http://img260.imageshack.us/img280/333/av115fj.jp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pressa.irk.ru/images/editions/pt/2005/n40/40-8.jpg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media-2.web.britannica.com/eb-media/98/8698-004-7DE29C5A.jpg" TargetMode="External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om-stol.ru/wp-content/uploads/2011/03/Ris1-1024x625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608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СССР во второй половине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 XX 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523880" y="2160000"/>
            <a:ext cx="600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резе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к учебному занят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 истории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Картинка 12 из 1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371600" cy="85716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sp>
        <p:nvSpPr>
          <p:cNvPr id="110" name="Rectangle 5"/>
          <p:cNvSpPr/>
          <p:nvPr/>
        </p:nvSpPr>
        <p:spPr>
          <a:xfrm>
            <a:off x="2819520" y="0"/>
            <a:ext cx="44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Дополнить фраз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895480" y="6858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66ffcc"/>
                </a:solidFill>
                <a:latin typeface="Arial"/>
              </a:rPr>
              <a:t>Проверь сво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76520" y="1371600"/>
          <a:ext cx="5943600" cy="512604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51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Кукурузная эпопе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своение цел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Холодная вой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Лагерь социализ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октрина Брежне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Кадровая револю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вгустовский пут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арад суверенит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уверенная Ро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одружество государ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Картинка 12 из 1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371600" cy="85716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sp>
        <p:nvSpPr>
          <p:cNvPr id="114" name="Rectangle 5"/>
          <p:cNvSpPr/>
          <p:nvPr/>
        </p:nvSpPr>
        <p:spPr>
          <a:xfrm>
            <a:off x="3200400" y="304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Аббреви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828800"/>
          <a:ext cx="8305920" cy="411480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ССР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 Союз</a:t>
                      </a: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…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оциалистических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НГ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…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Независимых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Э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 Совет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…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Взаимопомощ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КПСС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 Коммунистическая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…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оветского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КГБ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…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Государственной </a:t>
                      </a: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ГКЧП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 Государственный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…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по Чрезвычайному</a:t>
                      </a: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ВД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…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Варшавского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Картинка 12 из 146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85716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sp>
        <p:nvSpPr>
          <p:cNvPr id="117" name="Rectangle 5"/>
          <p:cNvSpPr/>
          <p:nvPr/>
        </p:nvSpPr>
        <p:spPr>
          <a:xfrm>
            <a:off x="3124080" y="0"/>
            <a:ext cx="361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Аббреви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819520" y="6858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66ffcc"/>
                </a:solidFill>
                <a:latin typeface="Arial"/>
              </a:rPr>
              <a:t>Проверь сво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04920" y="1600200"/>
          <a:ext cx="8610480" cy="48769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8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ССР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 Союз Советских Социалистических Респуб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НГ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одружество Независимых Государ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Э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 Совет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Экономической</a:t>
                      </a: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Взаимопомощ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КПСС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 Коммунистическая Партия Советского Сою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КГБ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 Комитет Государственной Безопас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ГКЧП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 Государственный Комитет по Чрезвычайному Полож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ВД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- Организация Варшавского Договор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Картинка 12 из 146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85716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sp>
        <p:nvSpPr>
          <p:cNvPr id="121" name="Text Box 5"/>
          <p:cNvSpPr/>
          <p:nvPr/>
        </p:nvSpPr>
        <p:spPr>
          <a:xfrm>
            <a:off x="304920" y="1371600"/>
            <a:ext cx="86104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Сделать сообщ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«12 июня – День независимости России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флаг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Картинка 12 из 146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85716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sp>
        <p:nvSpPr>
          <p:cNvPr id="124" name="Rectangle 5"/>
          <p:cNvSpPr/>
          <p:nvPr/>
        </p:nvSpPr>
        <p:spPr>
          <a:xfrm>
            <a:off x="1447920" y="528480"/>
            <a:ext cx="723888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Ответь одним предлож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  <a:ea typeface="Arial"/>
              </a:rPr>
              <a:t>сегодня я узн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  <a:ea typeface="Arial"/>
              </a:rPr>
              <a:t>было интерес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  <a:ea typeface="Arial"/>
              </a:rPr>
              <a:t>теперь я мог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  <a:ea typeface="Arial"/>
              </a:rPr>
              <a:t>я почувствовал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  <a:ea typeface="Arial"/>
              </a:rPr>
              <a:t>я научил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  <a:ea typeface="Arial"/>
              </a:rPr>
              <a:t>я попробу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  <a:ea typeface="Arial"/>
              </a:rPr>
              <a:t>мне захотело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Картинка 12 из 146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85716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sp>
        <p:nvSpPr>
          <p:cNvPr id="126" name="Rectangle 5"/>
          <p:cNvSpPr/>
          <p:nvPr/>
        </p:nvSpPr>
        <p:spPr>
          <a:xfrm>
            <a:off x="2438280" y="1371600"/>
            <a:ext cx="42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Интернет – ресурсы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228600" y="2515320"/>
            <a:ext cx="870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  <a:ea typeface="Arial"/>
              </a:rPr>
              <a:t>http://sovietime.ru/literatura-v-sssr/brezhn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  <a:ea typeface="Arial"/>
              </a:rPr>
              <a:t>http://www.echo.msk.ru/programs/hrushev/625392-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  <a:ea typeface="Arial"/>
              </a:rPr>
              <a:t>http://kprf.ru/rus_soc/6915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  <a:ea typeface="Arial"/>
              </a:rPr>
              <a:t>http://www.photosight.ru/photos/3013273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  <a:ea typeface="Arial"/>
              </a:rPr>
              <a:t>http://www.bookin.org.ru/book/5229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  <a:ea typeface="Arial"/>
              </a:rPr>
              <a:t>http://www.ruslania.com/context-321/entity-1/details-24651/language-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286000" y="1142280"/>
            <a:ext cx="47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99"/>
                </a:solidFill>
                <a:latin typeface="Arial"/>
                <a:ea typeface="Arial"/>
              </a:rPr>
              <a:t>План учебного заня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676520" y="1751760"/>
            <a:ext cx="5790960" cy="3988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99"/>
                </a:solidFill>
                <a:latin typeface="Arial"/>
                <a:ea typeface="Arial"/>
              </a:rPr>
              <a:t>1. История СССР в циф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676520" y="2208600"/>
            <a:ext cx="5790960" cy="703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ff99"/>
                </a:solidFill>
                <a:latin typeface="Arial"/>
                <a:ea typeface="Arial"/>
              </a:rPr>
              <a:t>2. Личность, дата и событие (покоряя пространство и врем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676520" y="2970720"/>
            <a:ext cx="5790960" cy="3988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ff99"/>
                </a:solidFill>
                <a:latin typeface="Arial"/>
                <a:ea typeface="Arial"/>
              </a:rPr>
              <a:t>3. История СССР в лиц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676520" y="3427920"/>
            <a:ext cx="5790960" cy="3988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ff99"/>
                </a:solidFill>
                <a:latin typeface="Arial"/>
                <a:ea typeface="Arial"/>
              </a:rPr>
              <a:t>4. Дополнить фраз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676520" y="3885120"/>
            <a:ext cx="5790960" cy="3988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ff99"/>
                </a:solidFill>
                <a:latin typeface="Arial"/>
                <a:ea typeface="Arial"/>
              </a:rPr>
              <a:t>5. Аббревиа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Картинка 12 из 1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4572000"/>
            <a:ext cx="3733560" cy="210492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sp>
        <p:nvSpPr>
          <p:cNvPr id="50" name="Rectangle 11"/>
          <p:cNvSpPr/>
          <p:nvPr/>
        </p:nvSpPr>
        <p:spPr>
          <a:xfrm>
            <a:off x="0" y="456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СССР во второй половине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 XX 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Картинка 12 из 1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371600" cy="85716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sp>
        <p:nvSpPr>
          <p:cNvPr id="52" name="Rectangle 5"/>
          <p:cNvSpPr/>
          <p:nvPr/>
        </p:nvSpPr>
        <p:spPr>
          <a:xfrm>
            <a:off x="2666880" y="228600"/>
            <a:ext cx="53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История СССР в циф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905120" y="1295280"/>
            <a:ext cx="6781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0      15        185      1/6       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80880" y="2135520"/>
            <a:ext cx="8534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Во второй половине XX века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  <a:ea typeface="Arial"/>
              </a:rPr>
              <a:t>территория СССР составляла … млн. кв. км, или … часть обитаемой с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  <a:ea typeface="Arial"/>
              </a:rPr>
              <a:t>Население страны составляло … млн. человек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  <a:ea typeface="Arial"/>
              </a:rPr>
              <a:t>В состав СССР входило …союзных республик, и  на его территории проживало более … больших и малых на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Картинка 12 из 1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371600" cy="85716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sp>
        <p:nvSpPr>
          <p:cNvPr id="56" name="Rectangle 6"/>
          <p:cNvSpPr/>
          <p:nvPr/>
        </p:nvSpPr>
        <p:spPr>
          <a:xfrm>
            <a:off x="3276720" y="1066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Проверь сво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0880" y="1903680"/>
            <a:ext cx="8229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Во второй половине XX века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  <a:ea typeface="Arial"/>
              </a:rPr>
              <a:t>территория СССР составляла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22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  <a:ea typeface="Arial"/>
              </a:rPr>
              <a:t> млн. кв. км, или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1/6 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  <a:ea typeface="Arial"/>
              </a:rPr>
              <a:t>часть обитаемой с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  <a:ea typeface="Arial"/>
              </a:rPr>
              <a:t>Население страны составляло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185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  <a:ea typeface="Arial"/>
              </a:rPr>
              <a:t> млн. человек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  <a:ea typeface="Arial"/>
              </a:rPr>
              <a:t>В состав СССР входило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15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  <a:ea typeface="Arial"/>
              </a:rPr>
              <a:t> союзных республик, и  на его территории проживало более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100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  <a:ea typeface="Arial"/>
              </a:rPr>
              <a:t> больших и малых на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059560" y="304920"/>
            <a:ext cx="59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История СССР в циф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Картинка 12 из 1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371600" cy="85716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sp>
        <p:nvSpPr>
          <p:cNvPr id="60" name="Rectangle 7"/>
          <p:cNvSpPr/>
          <p:nvPr/>
        </p:nvSpPr>
        <p:spPr>
          <a:xfrm>
            <a:off x="2057400" y="0"/>
            <a:ext cx="673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Личность, дата и собы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(покоряя пространство и врем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1523880" y="1676160"/>
            <a:ext cx="632484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.П. Королёв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2. Н.А. Доллежаль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3. И.В Курчатов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4. В.В. Терешкова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5.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Ю.А. Гагари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523880" y="3048120"/>
            <a:ext cx="6324840" cy="15562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 1963         Б. 1957       В. 1949                                               Г. 1961         Д. 19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1523880" y="4114800"/>
            <a:ext cx="6324840" cy="30200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. Первый полёт человека в космос                                               2. Первый спутник Земли                                                     3. Первая  атомная электростанция                                   4. Первая женщина в космосе                                            5. Первые ядерные испытания в СС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Картинка 12 из 1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371600" cy="85716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sp>
        <p:nvSpPr>
          <p:cNvPr id="65" name="Rectangle 5"/>
          <p:cNvSpPr/>
          <p:nvPr/>
        </p:nvSpPr>
        <p:spPr>
          <a:xfrm>
            <a:off x="1981080" y="0"/>
            <a:ext cx="673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Личность, дата и собы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(покоряя пространство и врем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276720" y="10666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Arial"/>
              </a:rPr>
              <a:t>Проверь сво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838080" y="1981080"/>
            <a:ext cx="7391520" cy="642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-Б-2; 2-Д-3; 3-В-5; 4-а-4; 5-Г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Картинка 5 из 306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3048120"/>
            <a:ext cx="1676520" cy="22096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0"/>
          <p:cNvSpPr/>
          <p:nvPr/>
        </p:nvSpPr>
        <p:spPr>
          <a:xfrm>
            <a:off x="152280" y="52578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.П. Королё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Картинка 9 из 112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05120" y="3048120"/>
            <a:ext cx="1600200" cy="2209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3"/>
          <p:cNvSpPr/>
          <p:nvPr/>
        </p:nvSpPr>
        <p:spPr>
          <a:xfrm>
            <a:off x="1833120" y="525780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.А. Доллеж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5" descr="Картинка 8 из 993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81280" y="3048120"/>
            <a:ext cx="1676520" cy="22096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6"/>
          <p:cNvSpPr/>
          <p:nvPr/>
        </p:nvSpPr>
        <p:spPr>
          <a:xfrm>
            <a:off x="3584520" y="525780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.В Курч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8" descr="33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410080" y="3048120"/>
            <a:ext cx="1752840" cy="2209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9"/>
          <p:cNvSpPr/>
          <p:nvPr/>
        </p:nvSpPr>
        <p:spPr>
          <a:xfrm>
            <a:off x="5186160" y="5257800"/>
            <a:ext cx="197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.В. Терешк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3" descr="Картинка 53 из 4300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315200" y="3048120"/>
            <a:ext cx="1676520" cy="2209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4"/>
          <p:cNvSpPr/>
          <p:nvPr/>
        </p:nvSpPr>
        <p:spPr>
          <a:xfrm>
            <a:off x="7395840" y="5257800"/>
            <a:ext cx="14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Ю.А. Гагар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Картинка 12 из 1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371600" cy="85716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sp>
        <p:nvSpPr>
          <p:cNvPr id="79" name="Rectangle 5"/>
          <p:cNvSpPr/>
          <p:nvPr/>
        </p:nvSpPr>
        <p:spPr>
          <a:xfrm>
            <a:off x="2438280" y="0"/>
            <a:ext cx="5867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История СССР в лиц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(Расставить в хронологическом порядке и назвать годы правл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Картинка 17 из 8529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1828800"/>
            <a:ext cx="1676520" cy="2362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Картинка 1 из 3029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1828800"/>
            <a:ext cx="1737000" cy="2362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Картинка 12 из 5761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10080" y="1828800"/>
            <a:ext cx="1676520" cy="2362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Картинка 42 из 5483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981080" y="1828800"/>
            <a:ext cx="1606680" cy="2362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9" descr="Картинка 53 из 8613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162920" y="1828800"/>
            <a:ext cx="1828800" cy="2362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1"/>
          <p:cNvSpPr/>
          <p:nvPr/>
        </p:nvSpPr>
        <p:spPr>
          <a:xfrm>
            <a:off x="380880" y="4724280"/>
            <a:ext cx="8436240" cy="202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«Правитель – лодка, народ – вода.                                                                        Вода несёт лодку, но может и опрокинуть её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                                  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Сюнь – Цз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228600" y="1905120"/>
            <a:ext cx="325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2057400" y="1905120"/>
            <a:ext cx="325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3735360" y="1905120"/>
            <a:ext cx="322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6"/>
          <p:cNvSpPr/>
          <p:nvPr/>
        </p:nvSpPr>
        <p:spPr>
          <a:xfrm>
            <a:off x="5486400" y="1905120"/>
            <a:ext cx="325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7"/>
          <p:cNvSpPr/>
          <p:nvPr/>
        </p:nvSpPr>
        <p:spPr>
          <a:xfrm>
            <a:off x="7238880" y="1905120"/>
            <a:ext cx="325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Картинка 12 из 1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371600" cy="85716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sp>
        <p:nvSpPr>
          <p:cNvPr id="92" name="Rectangle 5"/>
          <p:cNvSpPr/>
          <p:nvPr/>
        </p:nvSpPr>
        <p:spPr>
          <a:xfrm>
            <a:off x="2438280" y="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История СССР в лиц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200400" y="6858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66ffcc"/>
                </a:solidFill>
                <a:latin typeface="Arial"/>
              </a:rPr>
              <a:t>Проверь сво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Картинка 17 из 8529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4191120"/>
            <a:ext cx="1676520" cy="2361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Картинка 1 из 3029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05120" y="4191120"/>
            <a:ext cx="1736640" cy="2361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Картинка 12 из 5761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33920" y="4191120"/>
            <a:ext cx="1676160" cy="2361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Картинка 53 из 8613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486400" y="4191120"/>
            <a:ext cx="1828800" cy="236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Картинка 42 из 54837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391520" y="4191120"/>
            <a:ext cx="1606320" cy="23619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2"/>
          <p:cNvSpPr/>
          <p:nvPr/>
        </p:nvSpPr>
        <p:spPr>
          <a:xfrm>
            <a:off x="228600" y="4267080"/>
            <a:ext cx="325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1981080" y="4267080"/>
            <a:ext cx="325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3809880" y="4267080"/>
            <a:ext cx="325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5562720" y="4267080"/>
            <a:ext cx="325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7467480" y="4267080"/>
            <a:ext cx="325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2438280" y="1447920"/>
            <a:ext cx="5257800" cy="22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. И.В. Сталин (1924-195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2. Н.С. Хрущёв (1953-196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3. Л.И. Брежнев (1964-198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4. М.С. Горбачёв (1985-199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5. Б.Н. Ельцин (1991-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Картинка 12 из 1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1371600" cy="85716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sp>
        <p:nvSpPr>
          <p:cNvPr id="106" name="Rectangle 5"/>
          <p:cNvSpPr/>
          <p:nvPr/>
        </p:nvSpPr>
        <p:spPr>
          <a:xfrm>
            <a:off x="2819520" y="228600"/>
            <a:ext cx="44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Дополнить фраз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371600"/>
          <a:ext cx="4038480" cy="51260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1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Кукуруз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Осво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Холод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Лагер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октр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Кадров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вгустов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Пар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уверен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одруже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648320" y="1371600"/>
          <a:ext cx="4114800" cy="512604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51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ой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Брежне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ут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осудар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Эпопе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оциализ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Цел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еволю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уверенит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10-10T08:53:2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