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000-A21A-4AED-B511-FF1F28AD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93A-F7DB-42FA-A668-6273C6E2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66E-06C4-4E6A-8EC5-BD46D86D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A3F-0CD2-49F8-A1A9-BDFC1604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ABAF-8A17-43FC-9F9D-D1A2C60D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F331-FC7B-47F7-A0AC-8E4FAD0C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2128-5D0C-428E-B006-027F4380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77BD-463F-4981-95F6-9FF490D7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E1A2-3455-4BBD-8AE0-69DC2912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2228-8687-4495-8D90-491F714F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4728-900C-4B92-8B6C-5E335746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124-AC1A-4D4D-8CE5-AB0569C5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2233-A74B-478A-8DB2-7D13AB69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76E8-A0C7-43B9-A37B-FA4B796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40DA-AC56-4AC2-BB53-B21BEA94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EE6F-3608-491E-A656-A617F7E3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B216-07C0-41F9-8190-9B3B8D0B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4AC-9384-4E4C-810C-8137C8ED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B8C-0677-4CAE-875F-A941CA3B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951-D75B-45D7-AFD6-B8549E38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63B-BC27-475E-815A-19190898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0F6-3EAF-460E-B6D1-842F1A27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A94-136B-4783-990A-A9A893A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DCA-310D-44A7-98B9-4E6DD8E3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9A64-B334-4454-A7C6-D2090C70F7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E276-2C3E-4B8F-9661-53819D8A22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692280"/>
            <a:ext cx="770580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вные политически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нтры Рус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4880" y="333000"/>
            <a:ext cx="61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 в Новгород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1486080"/>
            <a:ext cx="237636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Ч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9200" y="2426400"/>
            <a:ext cx="125064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адн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37360" y="2426400"/>
            <a:ext cx="12826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ысяц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5720" y="2426400"/>
            <a:ext cx="11728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ады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59560" y="2426400"/>
            <a:ext cx="82224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няз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213000"/>
            <a:ext cx="194472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Высшее должностное лицо, избирался из местных бояр на вече. Ведал всеми землями, возглавлял суд, назначал и смещал должностных лиц, наблюдал за деятельностью князя, руководил внешней политикой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213000"/>
            <a:ext cx="187164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Помощник посадника, избирался на вече. Осуществлял контроль за налоговой системой, ведал торговым судом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3213000"/>
            <a:ext cx="208944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Глава новгородской церкви, т.е. епископ, избирался на вече. Хранил казну, участвовал в руководстве внешней политикой, возглавлял церковный суд. При его дворе велась новгородская летопись. Пожизненная должност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93080" y="3213000"/>
            <a:ext cx="172692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Нанимался вече для военной защиты республики . Не имел права вмешиваться в дела городского управления, ему не разрешалось вести торговлю, иметь владения в Новгородской земле. Вече могло  в любое время «указать путь»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186920" y="1773360"/>
            <a:ext cx="2016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580000" y="177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1773360"/>
            <a:ext cx="230508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1989000"/>
            <a:ext cx="504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1989000"/>
            <a:ext cx="503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2852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2852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2852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2781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 Black"/>
              </a:rPr>
              <a:t>       </a:t>
            </a:r>
            <a:r>
              <a:rPr b="0" lang="en-US" sz="4400" spc="-1" strike="noStrike">
                <a:solidFill>
                  <a:srgbClr val="00cc00"/>
                </a:solidFill>
                <a:latin typeface="Arial Black"/>
              </a:rPr>
              <a:t>«Слепая» схе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03600" y="1556640"/>
            <a:ext cx="30441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вление в Новгород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2786760"/>
            <a:ext cx="194472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еч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74320"/>
            <a:ext cx="126684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адн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82080" y="4802760"/>
            <a:ext cx="12826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ысяц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2640" y="4802760"/>
            <a:ext cx="11728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ады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72280" y="4802760"/>
            <a:ext cx="82224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няз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191628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7280" y="2924280"/>
            <a:ext cx="216072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348000" y="3141720"/>
            <a:ext cx="28728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3141720"/>
            <a:ext cx="50328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2924280"/>
            <a:ext cx="223200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944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Формы политического 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     устройства на Ру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8007120" cy="4195440"/>
        </p:xfrm>
        <a:graphic>
          <a:graphicData uri="http://schemas.openxmlformats.org/drawingml/2006/table">
            <a:tbl>
              <a:tblPr/>
              <a:tblGrid>
                <a:gridCol w="4003560"/>
                <a:gridCol w="400356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няж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политическо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ойств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ладимиро -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здальск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ледствен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арх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городск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лицко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ынск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боярами) монарх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«3» - параграф 10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«4» - составить вопросы для викторины «А верите ли Вы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«5» - составить кроссворд по теме «Феодальная раздробленность на Рус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7:04:08Z</dcterms:created>
  <dc:creator>98Lite</dc:creator>
  <dc:description/>
  <dc:language>en-US</dc:language>
  <cp:lastModifiedBy>Ученик</cp:lastModifiedBy>
  <dcterms:modified xsi:type="dcterms:W3CDTF">2011-03-05T06:24:29Z</dcterms:modified>
  <cp:revision>11</cp:revision>
  <dc:subject/>
  <dc:title>Заголовок слайда отсутствует</dc:title>
</cp:coreProperties>
</file>